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AB8-6FD7-4098-B2DA-F8CE4299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51D-3EDD-463D-8B4C-D127E294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D08CE-A656-4AF1-8DDA-338A8DA3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9EAA2-54F4-45C0-A930-DD354575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F9B06-3125-49EF-85AB-2F485E96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6D396-6293-474A-A7A5-94BC1FE9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77ABC-AF74-476C-9D81-11281623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2CC22-1CE8-49FD-9DEB-E1F9CDA3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0E0B3-0B0D-4D7F-9070-DF8409DF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B45CE-330F-46A0-9CD2-1DE52A2A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72A8F-0502-4342-86B1-0B0C1895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423A6-469B-419E-9ECF-74C57773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784-3A25-4A6B-8AF5-CD1E2E8E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84DA0-76EC-4C04-BF4A-6DFAADF0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B91DA-7532-41FB-AA96-7543C255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354BA-7D14-4E14-8D50-AE53D793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3BE2E-2FCA-427A-816B-E3C84DE3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7EA2C-668E-422C-AE59-8DB9F3D9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57785-EA40-4A4A-9E78-4B134C40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8645A-2D4C-4502-9536-27A4EA6C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D28DF-B3AB-4D43-A5D2-75449384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1EAFF-0F56-4C42-BB4C-776D241E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99E27-F978-4AA3-A66E-AA2F44DB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4D1-74D8-4B30-A35F-86FDC9D9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23CE0-B5BF-4AD6-87B6-9FD76DCD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6F512-2C42-437B-A422-6E521040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35847-2725-4591-8D49-56F31D30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A4073-D17C-42F1-90F8-D605E3BD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13782-7D43-4907-A86A-BC0AEAC4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39D3B-EA35-4CA3-9DE8-EC351BA3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97F0A-A0DA-4429-8813-444D5ACA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66391-3918-480A-8D1A-AFC7805E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3F7C8-79B9-4A88-A7F1-07259CA2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8A584-0137-4247-99AE-90181F3F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9E4B-432F-4DAB-9E24-B1EC9C15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49DC7-6DC0-4791-8072-C1C12CFA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D12B2-BD14-47FC-A3DB-A40852AA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FCE3B-655D-4699-B04E-1B6E7FDD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9D9BF-D7C5-4A5E-AF4B-B14EB84A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8652F-CCBF-4662-97CB-F0D0CB0D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39C81-5B05-445E-97FE-288438E2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8C0C7-4158-4B23-A57D-782CFA2B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4140D-F13A-4EAE-A677-797C13E5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90992-215D-4276-9620-BEC8F3B8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E6FF2-63E9-4689-93B7-77972579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5063-8261-4EEC-B958-BF580254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B6D2F-E0B0-4E60-BD78-2E660843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44F6A-E9EF-48A1-92AC-E1CC2A41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07FBA-0591-425A-9598-BA536A27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28240-9F79-4300-8C10-DE38DBE9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65C3A-5D7C-4F4C-8C6C-AFB779D7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67B37-102A-40B0-847B-9C9A07D9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6DD14-A3C5-445B-9F83-01567CBC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AF8BA-C110-479A-A7E3-F254B781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00255-0A86-4F83-9A6D-B87894A4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C9806-D43B-4613-9E93-BA47FE0D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6A89-C34E-4C99-BEB4-44C8EFC5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DB60A-31DF-47CE-8312-FF39604F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98C7D-ADA9-47F3-96EA-1693455F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B2C3E-B300-42C3-80D8-8FA37EFF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A1B9A-81F9-4A68-9E53-F887128E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A6DBC-48F9-4E58-9972-A8F6B331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D454E-0B61-4A5A-985E-871862CA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B99AC-FA3A-4C3D-940E-C8F46249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C4EBAF-AD25-4D31-AE5C-C0BDA257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3E836-12D4-4C49-8458-54E8B9A6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7AA7EA-B5AD-4D83-BDC4-9DB74E78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0ABB-08A9-4648-B14E-664CE688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360A92-E919-40BC-B29F-62951638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29C20-EA2D-4563-9B14-47DCBA79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885D5-7B5F-4DB8-B6AB-F1A14F8A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62D306-3DF7-4BD4-A014-9B3064D5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383876-592C-412F-BECE-F86D81E3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38A50-0867-4678-975A-CE7925B0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03887E-1D82-4202-8C3A-84A3E386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967E03-3C0A-47E0-9254-E798AE5F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A5FB9-4F20-4172-BD14-1EAB8338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64542E-6DAE-4F77-B97A-9E4E98C6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EC04-DE54-4D9B-92AB-9BDD9CA9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E4622D-B073-40B3-9DE2-8D3BEEEA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B8D04-0839-4946-89E4-F100A34D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00E28B-B55E-42F3-A7AC-81234080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E385B-F461-47A2-B86A-F3603CB2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B24FCD-63FF-4C86-A0F5-68916742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4902D1-3CF9-49EF-86B5-99C2CBD5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3BC138-9662-498B-BA07-74130607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173951-7FB9-4356-A609-41BB5259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4110AB-79AE-4DA7-9140-D527A969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7EDC0C-F9E3-403A-93AC-1115D402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B5B8-C8BA-4D54-8A64-37984C94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015FD2-2C43-4A30-A012-F59EDE31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98C2B8-BEAD-490A-8793-34347BA7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1007EF-CC30-44AD-A193-1DCCAA2B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90D356-007C-4E7E-B605-0130FB3A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592379-42F1-4836-B7CB-E34BC10F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1F309-35CB-4E83-9A3C-A6525BB9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59A268-0F0C-4CAB-BA39-3FE94FC8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91F0D5-CE5C-4C98-AA27-1342929E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FB8CAC-FB29-4E64-B3CB-55AA2EFA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12A5D5-4242-44BC-AD66-4F4EFE6E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F106-9F57-4AA0-BF7A-7AABB186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947989-0BD8-4605-9012-5461026C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FD219E-4911-4BF3-8691-12C68F63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8DDEDC-1EA4-4989-8E1A-AE447497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80B9B-DB62-44C5-864B-521A40A6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DA87E6-C02F-4F7F-B606-BA6A4037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9B3504-2669-4F96-BB06-E3597EAE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848081-6752-42A8-921F-EDC31F82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11612C-8C08-42D4-8143-2162A4CA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E47CD7-3C1B-497D-8234-2C546F3D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B38882-0532-4739-B8B3-D17AE3BC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EDB-A061-437E-BC5F-9794C912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DC4B-DD8A-416D-86BA-8816275A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E22040-5304-4975-AD57-746988AE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2CDBD7-05DA-4443-9316-516A4866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9E6C09-B09A-4ADF-8A71-48EA93AC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D01353-F761-43A4-8950-36A192BF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13416F-3254-4AC9-927E-462F98BC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1A9816-45BD-4D1D-A568-5E03103A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BA3214-A8C8-41DB-99A2-29DFC25F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C0ECA6-3DFF-4920-A32E-0452FCBC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9E43CF-ED39-49BD-A274-F781295A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732AC5-DD58-42C1-A024-095DC005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005B-3D81-4421-BFD3-F4A243D3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BCEEF1-FEA5-4BCD-AA12-53770999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3C4F4A-8E43-46C4-82DF-E26E852E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D68FB9-8291-458A-8023-254B49AE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4180CC-9D41-45A2-9D53-4E97CF66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5E2035-46CD-49DB-AA9D-1EA37F6F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FA7C27-12AC-4049-8AC6-9716724A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322FF8-0A36-488D-A6AB-F7428D96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480C0A-96C6-4C1D-A2F2-442B4575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F0E862-F823-4A65-B185-6153B429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4A74DF-7C86-423C-88D6-2E71BC94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69FD-BF7A-4C2C-8EBB-19DF4B94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490F6B-CC12-43B1-96C7-AAC0DF32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41078B-A8A1-4C1A-8738-F073AF9C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FC2FB2-2FEE-402C-8B61-A3655DE5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BAEF6E-1132-4991-BE2F-7AE15617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35491A-A6DE-4961-9F9D-62AC051E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11897E-CB00-4C94-AEAE-8037B9E2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F5C6E8-E730-4060-9A3E-6AEEE5C5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F92CF8-4503-455B-B408-12D88266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B1A2D7-48F6-4EDE-AD14-1294AC7F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280B95-94E4-49F9-8510-70E24DF4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153E-492C-4ACB-BCC9-8310C55D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5A55AD-22A3-4415-AB15-AFF31895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CFE711-47AB-4FA2-8C44-A5EB7705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2B6F28-7A85-45A1-93EB-6BA24673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C59680-72F4-4813-95CA-FA1B6AAF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4A01EE-50E3-48FA-B620-22E527B3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3C065A-005A-4F84-83B2-E4462955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7BABD1-BD1F-48D1-A82E-24578238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846E52-EB8E-4A6C-88F6-2BB7DA92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7AB0B4-3C3A-4236-B58E-EB313D44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8F5018-90A7-463F-A34B-55A7BE41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C120-448C-4B1D-97D7-468E1BA5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F936B7-CD87-471F-9903-C9D4C980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89A5F1-6B0B-495C-A568-8FBFB1B4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F846EF-464E-4841-BCE8-5E12DF84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D03888-9D5D-4BAB-B770-F467C956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47B972-1330-46FF-A2DD-1B5C4B2C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1D1472-DEFA-48C0-9858-6F7849A5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C497FB-22AB-436C-BA29-939CEA63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A30D53-285F-4D41-B686-0BF92A1B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6F295A-4898-4486-AEA4-329C4F30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C9568C-2DF1-482A-B379-0F3AB1A8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0768C-7883-4735-92AC-12A0194B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FEE234-1901-4E5D-9F54-14E03968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1F8D17-D978-4995-9DE1-0752F583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260F4D-9A60-4094-82C2-ED27842B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C4E095-E30C-4C89-9E95-C6C5E0B4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7951D3-3D6C-4BF6-9D64-F674DA69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E6F363-4A5F-49C0-9623-AC2A289C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4DB13C-43BD-46D5-812C-BC938614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59DFAB-7C25-4784-82A3-050CEE33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2EA335-2409-458F-BA39-C3A17756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942625-E695-4EF8-9940-95D23383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456B6-1F0D-40F7-B188-CACC5AD1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CB7D36-5362-45BA-BAAE-A5694CD6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44F801-6346-403F-80C8-4E0798DE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FAB0CB-5086-41E4-8C12-FBDC2BC3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7E5EE8-0E6F-4D81-817D-1E3F3734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F735F0-40B8-4F03-B63B-C8498668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B7B76B-C6D2-4C7E-89F6-09CAB3D0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57448B-B462-4E99-B0D6-03D85312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84F7CD-2A81-4A7A-9382-41A11797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A98EB2-A5FE-4060-BB03-14CF1AAB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6EF816-5D4A-4AB7-B432-8B70D0A8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8F104-91A3-4543-8E5E-7A3CD411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FD485F-E5E3-4D7A-9D61-00DF43B4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4F0D9D-7727-49DD-94FC-7F9FE42D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341E36-4EE1-4898-9D16-A0843FAF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C47238-EEE2-4243-9AD7-C9284E06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C1DDB2-6611-415E-B71D-321235A4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8F4F9B-7C17-4ADA-A110-87E13530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BCF204-D12E-44D3-85D1-1AE9F85B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10631-01D7-4E62-8B9D-06CED487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DE109-9233-4136-950F-30C54A43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CA4B-CD42-4B37-AA2D-30509C33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6C981-9D50-411A-A1C0-F4BE1BA0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74BAF-160E-4D76-A0B3-281DB49C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9F5A2-E3D7-48E6-BE56-37773287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83BC1-0CAA-4EF5-A7F3-84F76784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75DC6-4D84-4B86-980A-9529183B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BCA5F-877A-480A-9D79-60A1F9B2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83C1F-858A-40AA-B009-9F9AEF38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7EB07-C5E3-41CD-A346-967E88DA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2F6B5-3BA8-4C11-BC95-74768B4E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4D566-9782-4AAA-B061-CD82375E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6B3-C2C6-4F93-9231-3EF2190A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5D6AB-1CAC-4ADA-B292-1C1B4B29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E9888-BCEA-4880-A75F-04C72AFF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C322D-AE57-4ACA-9AA6-1C19013A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7473D-76AD-4CB1-A29F-018E1CAF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A2B05-19A4-4E69-82A0-7A307AF6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D54F6-E20A-469F-B72B-FF682373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45F4F-F2D3-47EB-9974-9B9595C9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EF775-4237-4E80-9978-7DFB2B03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D629B-79A3-43AB-BAAF-04461F55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90546-B555-4EC8-9776-E9CB8B88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766-9633-4D8C-A6A0-47985298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28071-3AB8-4114-BF93-B99EF39C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C1F88-5F11-42C2-B0A2-2D33099F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E9205-6139-41E5-8828-9A551006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04C0C-370E-4895-A9AD-12730948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7F4DF-A8EC-44DA-984F-05B463D6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25151-930E-4EAC-985D-19A885BD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1C825-F17F-4D84-A740-3906BBBE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03851-9B03-4BAA-8A29-AF6EC996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38CC2-1884-4753-86B6-51C221F6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1CE6C-B1E2-4B86-94B7-BEEA4D5B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05B-20F8-464D-883E-4D1C10C6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7E05C-5876-45A9-BB33-C4C625AA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FAF57-E0DB-489D-ACFE-ED27E20C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463EC-38F7-4452-8CD9-35D82269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9A26A-8A14-403A-9EF1-50A6D2A0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F8235-4C93-477C-909B-DD314176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3D9CC-167E-44E2-A8E3-98B08C40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5F1FA-E5D1-481E-9C88-9CF9A424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C4754-331D-470E-AAAC-D221FACC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7801E-D47F-4642-BD9B-1E077A70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07D8C-72EF-4F6C-8FEE-704F4D00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262B-4126-4043-969C-08EF239C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93001-3ED0-4271-AC42-0ECD7EC7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E49D4-2B01-48A7-A511-F558EB76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8498D-5EA8-4AD7-B5A5-C8F33F1A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041B8-1C02-459E-8F28-0592143E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01CA5-EACB-4DCC-A568-EC7402B7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3BBAA-30DE-45B6-9B1C-85986023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7C973-2EAF-40E9-8947-907F6D21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C4C94-1B76-4A29-BC50-17F773F8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BA98E-BC83-4A90-B008-81DB0009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D8CF0-1A31-4351-BEA8-130BE55C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4AE6-C1E8-4ACA-B0D4-19C0A208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12C23-CE0F-4AD0-B7E1-15BB313B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83CE2-B6E7-4F47-95A1-C63C4B76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2B40C-5354-49C0-9CE6-3EB98002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E8399-4201-40D4-905B-18D78656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33733-6C67-497B-B330-50BA5092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5BA35-0409-4796-AC93-B6470FDE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DA813-1AF4-4F15-885F-AE1B2640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FA713-0249-4321-9CA3-DDF353AA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05741-EC92-4784-86CF-B26DCC7A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83895-2063-4ABD-B3BB-A7DD69D2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569-F2C6-4718-ACD2-D89A2891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8868A-9A49-4BD0-ABBF-48BEEC30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16256-B101-43D0-9385-C7F5537C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2F41D-390E-4CA9-8863-999CD2C6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52B03-11B0-4CB1-98B2-E0022B21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2F0E5-98ED-4057-B5BE-AED2988F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6103A-EF67-4CDE-BB69-4BCFC58A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7859A-DBD0-4A4C-8731-0F635816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7DF93-DBFE-46CA-A0C9-D15645BE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F78E8-F020-4E04-A1CE-DADCE240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7BE30-EBAE-4A15-BAEC-9A0D98D7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78BF-23B6-4081-9469-56C2E39AC8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8AB0-58BC-4B09-836C-DF63427110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30D1-CC5F-461A-8761-560D9F4952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2945-34DA-4FD5-A130-BF4B8D79C0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20CF-9954-412B-8B28-487BD9160B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6697-BD44-4592-B0E8-348BA80DDB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F343-3918-40D4-924D-037ECF58B7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6B8F-3F47-46AE-8944-E90742C3C6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DB57-93D3-474B-B6BF-2355529889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879C-53A7-442C-A4BD-2C8A90432E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8AC7-BACD-4BB4-8E9E-9922D1D288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820E-760F-4491-9B1F-3CA41537D6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8C08-0C8A-4902-A056-36CCE08603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61E9-5ED4-4FDE-B99A-678BB23875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1B92-116F-4D8F-A913-3A988E5697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19C1-B3A7-48EA-8891-7AE6683C08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8E85-4914-46F9-BF74-6E2696A34F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FD08-694E-4E0E-B1E8-2FA4DAC3D8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CD5F-6B23-454F-A2D7-38A8CB24A2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BB78-E774-4EFC-9FB8-1E7712A704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47DF-AAC2-4F4C-A102-60F77B04A6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06FE-5E53-4E41-8BA4-BC7FBDBFD4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E276-614F-4AA7-AB76-C56D54DF94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C872-F631-4F72-A7D9-FCDA415FDC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A89B-B51A-40B9-8E35-C7FFE0A00B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0F05-A310-4374-BB36-DD051D1CAC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50D5-85EC-418A-BE1B-76899A8B29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7BFD-D05F-4A22-8BB6-0C8DC5B6CA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A924-E75F-4D71-946B-7A443136DC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DD06-457B-4913-8F91-E4B0E56EC3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85DE-4B35-47E0-9BEB-8E87C662F1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A495-68A9-4D29-A6C2-1B339F032D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759B-EA64-4389-A7AF-B81C8F26D9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3D84-A8D8-4B94-9547-832B2343B5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3738-904F-46A5-A8D6-C61A988508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DC39-1BFA-4D34-B5CF-0E3941660B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DFD5-1C56-4931-B86D-BEE9726758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A6A2-D60E-44AC-AF39-3545E5487B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20F1-E297-4770-B2C8-894740F353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5C4A-03E1-4A8D-9199-5D9E48ACF4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193E-C5A8-4EA4-A560-B1C7960ADA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2A7E-FC97-4832-A6E6-5E90CEEF2C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433440" y="2976480"/>
            <a:ext cx="827712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33280" y="917640"/>
            <a:ext cx="8677440" cy="56577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4284720" y="4221000"/>
            <a:ext cx="460836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284720" y="4869000"/>
            <a:ext cx="460836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4211640" y="5575320"/>
            <a:ext cx="460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590400" y="109440"/>
            <a:ext cx="7963200" cy="66391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4500720" y="189000"/>
            <a:ext cx="352728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4427640" y="907920"/>
            <a:ext cx="35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4"/>
          <a:stretch/>
        </p:blipFill>
        <p:spPr>
          <a:xfrm>
            <a:off x="4140360" y="1557360"/>
            <a:ext cx="352728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5"/>
          <a:stretch/>
        </p:blipFill>
        <p:spPr>
          <a:xfrm>
            <a:off x="4067280" y="2205000"/>
            <a:ext cx="35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6"/>
          <a:stretch/>
        </p:blipFill>
        <p:spPr>
          <a:xfrm>
            <a:off x="4427640" y="3573360"/>
            <a:ext cx="35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7"/>
          <a:stretch/>
        </p:blipFill>
        <p:spPr>
          <a:xfrm>
            <a:off x="4284720" y="4221000"/>
            <a:ext cx="35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8"/>
          <a:stretch/>
        </p:blipFill>
        <p:spPr>
          <a:xfrm>
            <a:off x="4572000" y="494172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9"/>
          <a:stretch/>
        </p:blipFill>
        <p:spPr>
          <a:xfrm>
            <a:off x="4284720" y="566100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10"/>
          <a:stretch/>
        </p:blipFill>
        <p:spPr>
          <a:xfrm>
            <a:off x="4211640" y="6324480"/>
            <a:ext cx="417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195120" y="981000"/>
            <a:ext cx="8753760" cy="489600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3924360" y="5084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5148360" y="4365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6516720" y="5084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7885080" y="28526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262080" y="1123920"/>
            <a:ext cx="8619840" cy="46101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971640" y="2781360"/>
            <a:ext cx="532908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971640" y="3429000"/>
            <a:ext cx="53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53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755640" y="4811760"/>
            <a:ext cx="532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66600" y="1262160"/>
            <a:ext cx="9010800" cy="43336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403236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539640" y="3673440"/>
            <a:ext cx="403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539640" y="4365720"/>
            <a:ext cx="403236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611280" y="5027760"/>
            <a:ext cx="403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233280" y="866880"/>
            <a:ext cx="8677440" cy="51242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971640" y="321300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482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755640" y="458136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826920" y="5286240"/>
            <a:ext cx="482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128520" y="879480"/>
            <a:ext cx="8886960" cy="57340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971640" y="3197160"/>
            <a:ext cx="36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971640" y="3860640"/>
            <a:ext cx="36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971640" y="4508640"/>
            <a:ext cx="367164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971640" y="5229360"/>
            <a:ext cx="4176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71280" y="762120"/>
            <a:ext cx="9001440" cy="59338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684360" y="4494240"/>
            <a:ext cx="42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900000" y="5113440"/>
            <a:ext cx="44640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6:5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